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035D-E814-496A-8AD2-2ABE1F33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302-A3FD-4780-95F4-F71965A8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3DA7-5002-443A-84CF-B89E7F74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0D03-B1FE-41C2-A0B7-74D52677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7C9C-8DCF-4796-BF97-BA4B96AD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F23-6358-4439-82D6-70E781F0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1D43-6AA7-4E76-BD8C-E1D376BC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0E7-9AB9-49A7-856A-EA89C87E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2D6-77C8-41CB-8428-165E7504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3C7-E693-4D3B-808F-D5BC974A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32D-CDD5-43DE-B0EE-45CAB424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3AA9-12DF-48A2-A797-E36E2446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64E9-0405-4AB1-B9AC-05F3A0BAC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eothermal_energy" TargetMode="External"/><Relationship Id="rId2" Type="http://schemas.openxmlformats.org/officeDocument/2006/relationships/hyperlink" Target="http://en.wikipedia.org/wiki/Geothermal_energy#cite_note-Bertani-18" TargetMode="External"/><Relationship Id="rId3" Type="http://schemas.openxmlformats.org/officeDocument/2006/relationships/hyperlink" Target="http://en.wikipedia.org/wiki/Geothermal_energy" TargetMode="External"/><Relationship Id="rId4" Type="http://schemas.openxmlformats.org/officeDocument/2006/relationships/hyperlink" Target="http://en.wikipedia.org/wiki/Geothermal_energy#cite_note-Holm-41" TargetMode="External"/><Relationship Id="rId5" Type="http://schemas.openxmlformats.org/officeDocument/2006/relationships/hyperlink" Target="http://en.wikipedia.org/wiki/Geothermal_energy" TargetMode="External"/><Relationship Id="rId6" Type="http://schemas.openxmlformats.org/officeDocument/2006/relationships/hyperlink" Target="http://en.wikipedia.org/wiki/Geothermal_energy" TargetMode="External"/><Relationship Id="rId7" Type="http://schemas.openxmlformats.org/officeDocument/2006/relationships/hyperlink" Target="http://en.wikipedia.org/wiki/Geothermal_energy_in_the_United_States" TargetMode="External"/><Relationship Id="rId8" Type="http://schemas.openxmlformats.org/officeDocument/2006/relationships/hyperlink" Target="http://en.wikipedia.org/wiki/Geothermal_power_in_the_Philippines" TargetMode="External"/><Relationship Id="rId9" Type="http://schemas.openxmlformats.org/officeDocument/2006/relationships/hyperlink" Target="http://en.wikipedia.org/wiki/Geothermal_power_in_Indonesia" TargetMode="External"/><Relationship Id="rId10" Type="http://schemas.openxmlformats.org/officeDocument/2006/relationships/hyperlink" Target="http://en.wikipedia.org/wiki/Geothermal_power_in_Mexico" TargetMode="External"/><Relationship Id="rId11" Type="http://schemas.openxmlformats.org/officeDocument/2006/relationships/hyperlink" Target="http://en.wikipedia.org/w/index.php?title=Geothermal_power_in_Italy&amp;action=edit&amp;redlink=1" TargetMode="External"/><Relationship Id="rId12" Type="http://schemas.openxmlformats.org/officeDocument/2006/relationships/hyperlink" Target="http://en.wikipedia.org/wiki/Geothermal_power_in_New_Zealand" TargetMode="External"/><Relationship Id="rId13" Type="http://schemas.openxmlformats.org/officeDocument/2006/relationships/hyperlink" Target="http://en.wikipedia.org/wiki/Geothermal_power_in_Iceland" TargetMode="External"/><Relationship Id="rId14" Type="http://schemas.openxmlformats.org/officeDocument/2006/relationships/hyperlink" Target="http://en.wikipedia.org/wiki/Geothermal_power_in_Japan" TargetMode="External"/><Relationship Id="rId15" Type="http://schemas.openxmlformats.org/officeDocument/2006/relationships/hyperlink" Target="http://en.wikipedia.org/wiki/Geothermal_energy_in_El_Salvador" TargetMode="External"/><Relationship Id="rId16" Type="http://schemas.openxmlformats.org/officeDocument/2006/relationships/hyperlink" Target="http://en.wikipedia.org/wiki/Geothermal_power_in_Kenya" TargetMode="External"/><Relationship Id="rId17" Type="http://schemas.openxmlformats.org/officeDocument/2006/relationships/hyperlink" Target="http://en.wikipedia.org/w/index.php?title=Geothermal_energy_in_Costa_Rica&amp;action=edit&amp;redlink=1" TargetMode="External"/><Relationship Id="rId18" Type="http://schemas.openxmlformats.org/officeDocument/2006/relationships/hyperlink" Target="http://en.wikipedia.org/w/index.php?title=Geothermal_power_in_Nicaragua&amp;action=edit&amp;redlink=1" TargetMode="External"/><Relationship Id="rId19" Type="http://schemas.openxmlformats.org/officeDocument/2006/relationships/hyperlink" Target="http://en.wikipedia.org/wiki/Geothermal_power_in_Russia" TargetMode="External"/><Relationship Id="rId20" Type="http://schemas.openxmlformats.org/officeDocument/2006/relationships/hyperlink" Target="http://en.wikipedia.org/wiki/Geothermal_power_in_Turkey" TargetMode="External"/><Relationship Id="rId21" Type="http://schemas.openxmlformats.org/officeDocument/2006/relationships/hyperlink" Target="http://en.wikipedia.org/w/index.php?title=Geothermal_power_in_Papua-New_Guinea&amp;action=edit&amp;redlink=1" TargetMode="External"/><Relationship Id="rId22" Type="http://schemas.openxmlformats.org/officeDocument/2006/relationships/hyperlink" Target="http://en.wikipedia.org/w/index.php?title=Geothermal_power_in_Guatemala&amp;action=edit&amp;redlink=1" TargetMode="External"/><Relationship Id="rId23" Type="http://schemas.openxmlformats.org/officeDocument/2006/relationships/hyperlink" Target="http://en.wikipedia.org/wiki/Geothermal_power_in_Portugal" TargetMode="External"/><Relationship Id="rId24" Type="http://schemas.openxmlformats.org/officeDocument/2006/relationships/hyperlink" Target="http://en.wikipedia.org/wiki/Geothermal_power_in_China" TargetMode="External"/><Relationship Id="rId25" Type="http://schemas.openxmlformats.org/officeDocument/2006/relationships/hyperlink" Target="http://en.wikipedia.org/w/index.php?title=Geothermal_power_in_France&amp;action=edit&amp;redlink=1" TargetMode="External"/><Relationship Id="rId26" Type="http://schemas.openxmlformats.org/officeDocument/2006/relationships/hyperlink" Target="http://en.wikipedia.org/w/index.php?title=Geothermal_power_in_Ethiopia&amp;action=edit&amp;redlink=1" TargetMode="External"/><Relationship Id="rId27" Type="http://schemas.openxmlformats.org/officeDocument/2006/relationships/hyperlink" Target="http://en.wikipedia.org/wiki/Geothermal_power_in_Germany" TargetMode="External"/><Relationship Id="rId28" Type="http://schemas.openxmlformats.org/officeDocument/2006/relationships/hyperlink" Target="http://en.wikipedia.org/w/index.php?title=Geothermal_power_in_Austria&amp;action=edit&amp;redlink=1" TargetMode="External"/><Relationship Id="rId29" Type="http://schemas.openxmlformats.org/officeDocument/2006/relationships/hyperlink" Target="http://en.wikipedia.org/wiki/Geothermal_power_in_Australia" TargetMode="External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M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n Gleis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able Geothermal Energy Lo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efficient access to Geothermal Energy is areas with high underground temper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as are typically found around active or geologically young volcano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areas where the crust is thin, allowing more heat to get th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thermal Energy may also be obtained by seismically active spots, natural hot springs and geys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066680" y="457200"/>
          <a:ext cx="7080480" cy="9918720"/>
        </p:xfrm>
        <a:graphic>
          <a:graphicData uri="http://schemas.openxmlformats.org/drawingml/2006/table">
            <a:tbl>
              <a:tblPr/>
              <a:tblGrid>
                <a:gridCol w="1770120"/>
                <a:gridCol w="1770120"/>
                <a:gridCol w="1770120"/>
                <a:gridCol w="1770120"/>
              </a:tblGrid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(MW)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0" lang="en-US" sz="1200" spc="-1" strike="noStrike" u="sng" baseline="30000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[19]</a:t>
                      </a:r>
                      <a:r>
                        <a:rPr b="0" lang="en-US" sz="1200" spc="-1" strike="noStrike" u="sng" baseline="30000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(MW)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r>
                        <a:rPr b="0" lang="en-US" sz="1200" spc="-1" strike="noStrike" u="sng" baseline="30000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[42]</a:t>
                      </a:r>
                      <a:r>
                        <a:rPr b="0" lang="en-US" sz="1200" spc="-1" strike="noStrike" u="sng" baseline="30000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national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</a:t>
                      </a: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/>
                        </a:rPr>
                        <a:t>Philippi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/>
                        </a:rPr>
                        <a:t>Indone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/>
                        </a:rPr>
                        <a:t>Ita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/>
                        </a:rPr>
                        <a:t>New Zea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/>
                        </a:rPr>
                        <a:t>Ice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/>
                        </a:rPr>
                        <a:t>Keny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/>
                        </a:rPr>
                        <a:t>Rus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/>
                        </a:rPr>
                        <a:t>Tur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/>
                        </a:rPr>
                        <a:t>Papua-New Guin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/>
                        </a:rPr>
                        <a:t>Portu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/>
                        </a:rPr>
                        <a:t>Ch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/>
                        </a:rPr>
                        <a:t>Ethiop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/>
                        </a:rPr>
                        <a:t>Germ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/>
                        </a:rPr>
                        <a:t>Aust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/>
                        </a:rPr>
                        <a:t>Austr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i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73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0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AutoShape 5"/>
          <p:cNvSpPr/>
          <p:nvPr/>
        </p:nvSpPr>
        <p:spPr>
          <a:xfrm>
            <a:off x="1876320" y="-2355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3956040" y="-2217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5715000" y="-2217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7889760" y="-2217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thermal energy is energy obtained by using the heat below the earths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using the heat, steam is generated and this leads to turning the turbines creating electr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slide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 Polluting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where can use geothermal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,000 times more energy can obtained below the surface, from geothermal energy, than all the non renewable resources comb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be used in both small and large applications, from single households to entire 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itial capital cost is significant, can cost about $10 Million to dr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20% chance of fail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's a possibility that gasses could leak from beneath the Earths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6:58:47Z</dcterms:created>
  <dc:creator>SASD</dc:creator>
  <dc:description/>
  <dc:language>en-US</dc:language>
  <cp:lastModifiedBy>PA Department of Education Classrooms for the Future</cp:lastModifiedBy>
  <dcterms:modified xsi:type="dcterms:W3CDTF">2011-04-27T17:28:21Z</dcterms:modified>
  <cp:revision>6</cp:revision>
  <dc:subject/>
  <dc:title>Geothermal Energy</dc:title>
</cp:coreProperties>
</file>